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D37-89C6-4639-8182-269D86FE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EEF-68BD-4267-AE49-1EF5FEB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297-1117-4491-8DBF-E1AD9FCA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BFF-F216-4180-BDA1-6E525B39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328-C500-4F05-A990-AD955117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951-1534-4B51-9544-CBCA5BCB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1B5-1461-4A6C-9FFC-0D86B7DD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0D1-2DC3-4E4F-BC95-61368902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F25-4707-40A7-A174-DF9281C1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823-DF42-48B1-BE51-1B4590C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5F7-DC47-45B0-A752-3C53041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ADF-0166-4B65-BB7B-087589B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513-DEB1-4076-B0F8-C5B4D57B3C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0"/>
            <a:ext cx="8915400" cy="77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1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уа. Ууб. Уув. Ууг. Ууд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Знакомство с учебником Т. Г. Рамзаевой «Русский язык. 2класс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вторение материала, пройденного в 1кл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Рассмотрите слова каждой строчки, сравните и сделайте вывод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ченье живут труд и вмест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Ученье и труд вместе живут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лова второй строчки связаны между собой по смы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ыражают законченную мысль, значит, это предлож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е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7.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Работа над ошибками и обобще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ие пройденного матери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ообщение общих результатов диктан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Коллективная работа над группами ошиб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вторение пройденно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Дополните предложения нужными по смыслу сл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ми. Спишите 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Ласточки и стрижи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Щуки и ерши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Чашки и чайник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Щавель</a:t>
            </a:r>
            <a:r>
              <a:rPr b="0" lang="be-BY" sz="48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это …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70880" y="320040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325920" y="4525920"/>
            <a:ext cx="242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рыбы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554160" y="5334120"/>
            <a:ext cx="28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посуда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725720" y="5973840"/>
            <a:ext cx="23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трава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05280" y="380988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Times New Roman"/>
              </a:rPr>
              <a:t>(птицы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9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 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8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Реч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е  и  ы  э  ю  я  у  о  а  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те буквы на две группы. Каждую груп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шите цепочкой с новой стро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(Дети могут разд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-я группа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гласные, которые показывают на тверд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согласных звуков;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я группа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гласные, которые показывают на мягк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согласных зву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Или: 1) Йотированные глас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2) Нейотированные гласные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Письмо предложения: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Речь помогает людям пон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be-BY" sz="3200" spc="-1" strike="noStrike">
                <a:solidFill>
                  <a:srgbClr val="003366"/>
                </a:solidFill>
                <a:latin typeface="Times New Roman"/>
              </a:rPr>
              <a:t>мать друг друга, много знать и дружно жить.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-124920" y="73080"/>
            <a:ext cx="9601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33"/>
                </a:solidFill>
                <a:latin typeface="Times New Roman"/>
              </a:rPr>
              <a:t>Бабкин боб расцвёл в дождь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90033"/>
                </a:solidFill>
                <a:latin typeface="Times New Roman"/>
              </a:rPr>
              <a:t>Букет бабке боб в борщ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46400" y="2219400"/>
            <a:ext cx="81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очитайте. Объясните правописание подчеркнутых бук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ую букву будете писать на минутке чистописани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348000" y="122220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"/>
          <p:cNvSpPr/>
          <p:nvPr/>
        </p:nvSpPr>
        <p:spPr>
          <a:xfrm>
            <a:off x="8072280" y="122220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130560" y="2060640"/>
            <a:ext cx="3049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930920" y="2066760"/>
            <a:ext cx="3045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83040" y="2855880"/>
            <a:ext cx="8926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Уч..ник, д..журный, учи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т..ль, р..бота, р..ботает,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0033"/>
                </a:solidFill>
                <a:latin typeface="Times New Roman"/>
              </a:rPr>
              <a:t>р..бочий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95440" y="5908680"/>
            <a:ext cx="75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ем похожи все эти сло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ая группа слов является однокоренными слова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0"/>
            <a:ext cx="8915400" cy="87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Ь зн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ем..я         портфел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С..ели         весел..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Плат..е       двер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Ноч..ю        апел..си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Бел..ё          тюлен.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Тетрад..      солов..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6600" spc="-1" strike="noStrike" u="sng">
                <a:solidFill>
                  <a:srgbClr val="000066"/>
                </a:solidFill>
                <a:uFillTx/>
                <a:latin typeface="Times New Roman"/>
              </a:rPr>
              <a:t>Парные согласны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твёрд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ф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ш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мягк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ф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50532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41008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324480" y="251460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>
            <a:off x="731520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8381880" y="24382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419720" y="236232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50532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480060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6095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7238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8381880" y="5181480"/>
            <a:ext cx="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2286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Парные согласные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                    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амые опасные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Если слышишь парный звук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Будь внимательным мой дру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Парный сразу проверя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лово быстро измен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Уж-ужи, труд-труды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Ёж-ежи, мост-мосты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1120" y="380880"/>
            <a:ext cx="91440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ru-RU" sz="6600" spc="-1" strike="noStrike" u="sng">
                <a:solidFill>
                  <a:srgbClr val="000066"/>
                </a:solidFill>
                <a:uFillTx/>
                <a:latin typeface="Times New Roman"/>
              </a:rPr>
              <a:t>Непарные согласны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звонк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л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л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глухие: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 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ц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ч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[</a:t>
            </a:r>
            <a:r>
              <a:rPr b="1" lang="ru-RU" sz="6000" spc="-1" strike="noStrike">
                <a:solidFill>
                  <a:srgbClr val="000066"/>
                </a:solidFill>
                <a:latin typeface="Times New Roman"/>
              </a:rPr>
              <a:t>щ</a:t>
            </a: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8600" y="76320"/>
            <a:ext cx="88977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лов на свете нам не счесть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В каждом слове корень ест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Чтобы грамотно писать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Надо корень выделят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Так же как и у куст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Корень слова есть у слов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Лес, лесок; цвет, цветок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Будь внимателен к слова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Отыщи в них корень сам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rc 4"/>
          <p:cNvSpPr/>
          <p:nvPr/>
        </p:nvSpPr>
        <p:spPr>
          <a:xfrm rot="19728000">
            <a:off x="609120" y="4495320"/>
            <a:ext cx="762120" cy="53352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5"/>
          <p:cNvSpPr/>
          <p:nvPr/>
        </p:nvSpPr>
        <p:spPr>
          <a:xfrm rot="19432200">
            <a:off x="1828800" y="4571640"/>
            <a:ext cx="762120" cy="53352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6"/>
          <p:cNvSpPr/>
          <p:nvPr/>
        </p:nvSpPr>
        <p:spPr>
          <a:xfrm flipV="1" rot="13996800">
            <a:off x="3906720" y="4357440"/>
            <a:ext cx="692280" cy="96840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7"/>
          <p:cNvSpPr/>
          <p:nvPr/>
        </p:nvSpPr>
        <p:spPr>
          <a:xfrm flipV="1" rot="13996800">
            <a:off x="5493960" y="4357440"/>
            <a:ext cx="692280" cy="96840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55520" y="933480"/>
            <a:ext cx="8945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-Все буквы 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обведите в кружок, букв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Ж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- в треугольник, буквы «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» зачеркни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22924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А  П  Л  О  Н  З  Ъ  Э  Ж  Б  С  Н  Г  Р  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  М  И  Э  Н  Т  С  А  О  П  Р  О  А  Т 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С  П  Е  К  Л  А  К  А  С  Т  С  Р  У  Й  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М  Ш  Т  Ь  О  К  Г  А  Т  Б   Ю  О   Т  С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А  Р  Н  Д   Ж  Ю  С  А  Т  П  Е  У  М  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  И  О  Г  Й  С  Т  А  Р  Н  Ъ  Х  А  С  Ж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Э  П  О  С  К  У  С  Ж  К  Ц  Ж  П  И   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37960" y="2286000"/>
            <a:ext cx="8525160" cy="4038480"/>
          </a:xfrm>
          <a:prstGeom prst="rect">
            <a:avLst/>
          </a:prstGeom>
          <a:noFill/>
          <a:ln cap="rnd" w="5724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64920" y="247680"/>
            <a:ext cx="62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1. Работа с корректурной проб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512080" y="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Times New Roman"/>
              </a:rPr>
              <a:t>Самостоя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3520" y="609480"/>
            <a:ext cx="396216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существи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Предмет, явления приро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648320" y="614520"/>
            <a:ext cx="396216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прилага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Признак предм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акой? какая? какое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09480" y="2057400"/>
            <a:ext cx="297180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Глаго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(Действие предм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что делать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что сделать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380880" y="5334120"/>
            <a:ext cx="304812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Предлог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в, на, за, от, под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над, с, из, п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5595840" y="5334120"/>
            <a:ext cx="28958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Сою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И, а, но, ил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чтоб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4148280" y="1447920"/>
            <a:ext cx="804600" cy="4952880"/>
          </a:xfrm>
          <a:prstGeom prst="ellipse">
            <a:avLst/>
          </a:prstGeom>
          <a:solidFill>
            <a:srgbClr val="cc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66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486400" y="2057400"/>
            <a:ext cx="297180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Местоим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я, ты, он, она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imes New Roman"/>
              </a:rPr>
              <a:t>оно, мы, вы, он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392640" y="6232680"/>
            <a:ext cx="21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990033"/>
                </a:solidFill>
                <a:uFillTx/>
                <a:latin typeface="Times New Roman"/>
              </a:rPr>
              <a:t>Служебны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14440" y="3733920"/>
            <a:ext cx="32194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Нареч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где? когда? как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уда? откуда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почему? зачем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5334120" y="3733920"/>
            <a:ext cx="33526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Times New Roman"/>
              </a:rPr>
              <a:t>Имя числительно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оличеств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рядковый номе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скольк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2819520" y="6538680"/>
            <a:ext cx="457200" cy="228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5695920" y="6462360"/>
            <a:ext cx="3049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3281400" y="6781680"/>
            <a:ext cx="2438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3733920" y="457200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4952880" y="44956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0"/>
          <p:cNvSpPr/>
          <p:nvPr/>
        </p:nvSpPr>
        <p:spPr>
          <a:xfrm flipH="1">
            <a:off x="3581280" y="2895480"/>
            <a:ext cx="6098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4876920" y="2819520"/>
            <a:ext cx="609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2"/>
          <p:cNvSpPr/>
          <p:nvPr/>
        </p:nvSpPr>
        <p:spPr>
          <a:xfrm flipH="1" flipV="1">
            <a:off x="3600360" y="19047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3"/>
          <p:cNvSpPr/>
          <p:nvPr/>
        </p:nvSpPr>
        <p:spPr>
          <a:xfrm flipV="1">
            <a:off x="4876920" y="190512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428640" y="5257800"/>
            <a:ext cx="76212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4905360" y="52243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8985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7"/>
          <p:cNvSpPr/>
          <p:nvPr/>
        </p:nvSpPr>
        <p:spPr>
          <a:xfrm>
            <a:off x="0" y="0"/>
            <a:ext cx="914400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4.Звук и буква. Напишите правильно послов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словица, тебя мы зна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о</a:t>
            </a:r>
            <a:r>
              <a:rPr b="0" lang="be-BY" sz="24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е такою ты был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Неужто буква озо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новь чьё-то место заняла?.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Два сапога</a:t>
            </a:r>
            <a:r>
              <a:rPr b="0" lang="be-BY" sz="36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тар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б) Не для шавки только голова на плеч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в) Ус хорошо, а два лучш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) Трус своей лени боитс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) Голод не щёт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е) Сашу маслом не испортиш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ё) Мы сами с уш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ж) Первый клин всегда ком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895480" y="76320"/>
            <a:ext cx="335304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66"/>
                </a:solidFill>
                <a:latin typeface="Times New Roman"/>
              </a:rPr>
              <a:t>Имен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66"/>
                </a:solidFill>
                <a:latin typeface="Times New Roman"/>
              </a:rPr>
              <a:t>существительны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457200"/>
            <a:ext cx="20574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обозначаю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назва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предме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477120" y="457200"/>
            <a:ext cx="20574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отвечаю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на вопрос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</a:rPr>
              <a:t>кто? что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09480" y="1933560"/>
            <a:ext cx="2590920" cy="141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Мужско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школьник, учен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ебёнок, пен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апа, дядя,пу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81400" y="1905120"/>
            <a:ext cx="2895480" cy="1447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Женски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школьница, учениц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нига, полка, лис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ама, тётя, две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248520" y="1938240"/>
            <a:ext cx="2361960" cy="141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Средний род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едро, солнц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зерно, блюдц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мя, зна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76440" y="3657600"/>
            <a:ext cx="37335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Единственное числ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562640" y="3657600"/>
            <a:ext cx="38862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Times New Roman"/>
              </a:rPr>
              <a:t>Множественное числ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581280" y="1143000"/>
            <a:ext cx="19814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ме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210120" y="15238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р   о   д   а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652480" y="327672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ч    и    с    л    а 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363760" y="41148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П   о        п    а    д    е    ж    а   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447920" y="4495680"/>
            <a:ext cx="624816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менительный падеж  (есть) кто? чт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одительный падеж     (нет)  кого? чего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ательный падеж         (дать)  кому? чем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инительный падеж    (вижу)  кого? чего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ворительный падеж   (доволен)  кем? че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едложный падеж     (думаю)  о ком? о чё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228600" y="0"/>
            <a:ext cx="952668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б) Работа по распознаванию ударных и безудар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ло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 полю рыщет,                      Окраской сероват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ет да свищет,                       Повадкой вороват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Деревья ломает,                       Крикунья хриповатая</a:t>
            </a: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 земле траву приклоняет.    Известная персо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то он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тичка – невеличка ножки име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Хочет сделать шажок</a:t>
            </a: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лучается прыж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Отгадки записыв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Сколько в слове слог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Какой слог ударный? Докаж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66"/>
                </a:solidFill>
                <a:latin typeface="Times New Roman"/>
              </a:rPr>
              <a:t>Подчеркните безударные сло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56544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47920" y="2438280"/>
            <a:ext cx="200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етер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324480" y="25146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орон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784760" y="4214880"/>
            <a:ext cx="26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Воробе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36640" y="378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2794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0"/>
            <a:ext cx="883908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р, м, о, е, 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а какие группы можно разделить данные букв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e-BY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Запишите каждую группу с новой строки,  состави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цепочку из бук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рмт  рмт 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be-BY" sz="4400" spc="-1" strike="noStrike">
                <a:solidFill>
                  <a:srgbClr val="000066"/>
                </a:solidFill>
                <a:latin typeface="Times New Roman"/>
              </a:rPr>
              <a:t>ео  ео  . .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слово можно собрать из букв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что такое метро?     Метро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одская электр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лезная дорога,обычно подземн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60400" y="21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08640" y="522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74520" y="1879560"/>
            <a:ext cx="651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Гласные и согласны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234840" y="4851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Метро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08040" y="0"/>
            <a:ext cx="610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3.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28600" y="457200"/>
            <a:ext cx="89154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Линейка, тетрад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Составьте цепочку 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букв: из первого слова выпишите согласные, котор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обозначают твёрдые звуки, из второго-согла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оторые обозначают мягкие звуки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ктд,  дкт,  тдк,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пределите порядок написания бук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Каждый 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последняя буква становится на место первой буквы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2.Словарно-орфографическая рабо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Наблюдение 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словом как частью слова, за ударными и безудар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гласными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одумайте: в каком ещё значении употребл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лов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линейка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(Построение ребят на уроках физ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культуры, на праздниках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79440" y="0"/>
            <a:ext cx="620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4.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3808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б  е  т  р  а 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а какие группы можно разделить данные букв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Назовите гласные (согласные)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апишите цепочку букв, которая состоит из глас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ых, обозначающих мягкость согласных звуков,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огласных, которые обозначают звонкие зву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еябр  еябр  еяб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2. Словарно-орфографическ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акое слово можно составить из букв?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660066"/>
                </a:solidFill>
                <a:latin typeface="Times New Roman"/>
              </a:rPr>
              <a:t>—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акую орфограмму нужно запомнить?Запишит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это слово несколько раз. Назовите близкие по смы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ло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2240" y="1600200"/>
            <a:ext cx="65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</a:rPr>
              <a:t>(Гласные и согласные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781680" y="4648320"/>
            <a:ext cx="22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(Ребят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2034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76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203480" y="60958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дети, детвора, ребятишки, ребятн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152280"/>
            <a:ext cx="8801280" cy="69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крепление изученного о гласных и соглас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уках и буквах.  Загадка.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бежало молоко,            Загрустил Аэрофло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бежало далеко,           Не взлетает самол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 полям, по лугам,       Пассажирам нелег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 лесам, по городам.     Убежало моло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вуковой анализ слов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ум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устно) 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поминают особенности гласных и согласных зву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звать лишнее слово в каждом ряд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волк, лиса, тигр, берёза, кро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сина, барсук, ель, сирень, р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248520" y="2971800"/>
            <a:ext cx="21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Times New Roman"/>
              </a:rPr>
              <a:t>(Туман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0"/>
            <a:ext cx="8915400" cy="74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5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овторяем то, что зн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инутка чистопис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е   о   в   и   я   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айдите лишнюю букву, объясните, почему она лиш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яя. Напишите цепочки букв, каждый раз соединяя лиш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нюю букву с одной из безударных гласны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be-BY" sz="4000" spc="-1" strike="noStrike">
                <a:solidFill>
                  <a:srgbClr val="000066"/>
                </a:solidFill>
                <a:latin typeface="Times New Roman"/>
              </a:rPr>
              <a:t>ве,  во, ви,  вя,  ва 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2. Словарно-орфографическая работа.  Зага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Маленький мальчиш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В сером армячиш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По дворам шныряе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Крохи собира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be-BY" sz="2800" spc="-1" strike="noStrike">
                <a:solidFill>
                  <a:srgbClr val="000000"/>
                </a:solidFill>
                <a:latin typeface="Times New Roman"/>
              </a:rPr>
              <a:t>Определите СОУ данного слова.  </a:t>
            </a:r>
            <a:r>
              <a:rPr b="1" i="1" lang="be-BY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192560" y="563868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(Воробей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i="1" lang="ru-RU" sz="3200" spc="-1" strike="noStrike">
                <a:solidFill>
                  <a:srgbClr val="a50021"/>
                </a:solidFill>
                <a:latin typeface="Times New Roman"/>
              </a:rPr>
              <a:t>Урок6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ходно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 лес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ндрей и Юра идут в лес. Рядом бежит пё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Тузик. Весело поют птицы. Скачут по вет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елки. Спрятались под ёлкой серые ёж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мматические зад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. Записать цифрой, сколько слогов в слова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есело, поют, серые, ёж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2. В словах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ветки, белки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подчеркнуть мяг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глас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3. Записать цифрами, сколько букв и звуков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лове </a:t>
            </a:r>
            <a:r>
              <a:rPr b="1" i="1" lang="ru-RU" sz="3200" spc="-1" strike="noStrike">
                <a:solidFill>
                  <a:srgbClr val="003366"/>
                </a:solidFill>
                <a:latin typeface="Times New Roman"/>
              </a:rPr>
              <a:t>Юра.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5:39:23Z</dcterms:created>
  <dc:creator>НачКласс</dc:creator>
  <dc:description/>
  <dc:language>en-US</dc:language>
  <cp:lastModifiedBy>Гимадиева Насима</cp:lastModifiedBy>
  <dcterms:modified xsi:type="dcterms:W3CDTF">2012-01-18T17:37:46Z</dcterms:modified>
  <cp:revision>29</cp:revision>
  <dc:subject/>
  <dc:title>Презентация PowerPoint</dc:title>
</cp:coreProperties>
</file>